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D88C-1AF6-4AEE-87E9-29BDCE616A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2696-DAAE-42F2-A7A8-83D8F8094F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11A3-152B-4797-BA43-69F83D3B9D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C71C-6B49-4C85-9F18-81220F000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B564-F599-4677-B00E-6355ABBE8F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E70B-B45B-4B47-8377-8EB59C04C5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374E-A907-4B5C-9397-EB1F2F8FDA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B1A6-83C0-4D2D-93DB-8DA4B2E737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8546-EE1A-4A34-AFDC-650198EE8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BEB2-A590-4DB4-B102-236C57C60B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061C-FB20-4329-9176-A4933CD35B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F16F-04B6-4AA2-9CA4-A1256A9A41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76E6-4193-473E-A6B8-E3B0F077D4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7A3B-EE7C-4BE2-A9ED-249779B029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4366-2688-4E0B-B8E3-04DEB2466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FC9-E8A1-43DF-BF3C-22DE9710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E90-7C90-458E-A850-CBB4EA6B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ED2-4C70-4BB1-ABBE-A732B814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DA7-E45C-43E6-ADD7-C59A9F0D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CB3F-8E4C-4FC3-8053-F04D771B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62D6-49C3-4761-9605-103C0398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AD1F-32F5-4D57-B938-4E63C9CC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07C5-2F16-4687-8BD8-069742F3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EA31-A296-426C-8A0A-5DE7FE8C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EEB7-2F30-408F-A40A-A74A8164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6D10-F323-4DD5-BE79-834B2BBB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AF7-7A79-4772-A9BF-1F227DB4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95BA-488F-4FF4-B65D-4ABDE5C1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A31A-3D28-47E3-B596-9C11AC82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A49F-A1E7-4701-B474-83AE3828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4C03-485B-4438-9748-634A7B0D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604A-B269-48FF-9BF9-0EDC8AC4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98E89-5B4D-4946-9534-2FB4CAC8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C13D1-4F0C-4CE9-A073-20A3053F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8ACCA-F3C6-440C-A7F2-D9472503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7BC7C-231D-4127-A35D-D5025588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6EBCF-9BC2-4D00-8828-7F594F8B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3D5-4D0B-4FB2-9250-1B41D3A3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44C3A-DBBB-4A37-924C-01DA0A45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BF5F6-F7D3-4334-BB1B-EBC5048E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04D6B-6933-439A-BA96-CD7750BE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81017-581E-4DA9-B91C-53A52690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74598-B3B5-4A1D-92A0-B6202940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41F23-7BC8-422A-B41D-AAFAACE7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7B21A-6A13-4181-8690-63CDED45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7824F-25E0-4D04-A16A-38A4469D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C4156-B4BB-4186-8969-E452AFAE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C8C54-6DF6-485A-8D7D-BC0E7837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146-D7CF-44E3-9C03-7ED5EDDD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24BEA-92CC-4031-9AF5-994C01C4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B3794-E554-46B7-8B4D-8F1B1A66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D803-D6F6-41FA-AA01-33AC2ACC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517E7-F303-479A-8D1E-C4D6B725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6A0A4-6652-4360-BD9E-9CB8F852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E7234-CD18-40E3-8DDF-940B4727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10123-885A-481D-B7C3-EAF894CD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B1434-12A8-423C-ADAA-EF49B091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4B6C4-00AC-45C2-B945-4B2EFD61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545C3-DF49-4CD2-A8BC-DBEF5BFD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96E-6859-46E8-BDF0-C2EE2A89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786C08-85A2-485A-B1A7-446719C9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B77EA-0E3B-4635-9F80-78524263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76A36A-2218-4699-8F59-F1ABB58E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AF6C1-04C9-487C-98B4-B978D4D4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B810C-7BEC-48B2-8D37-349FB1C0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8FD1E-DD8C-47D4-97BE-E770ADEE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C357B-649D-4BBE-AF08-BD92ECCD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9E6FB-48DE-4BAF-A204-E37D27C4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298E7F-6812-4364-89E9-FE9CD387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CD0D7-55C2-4CD0-905C-69E0C614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3FA-39E0-4E19-BA88-6C3482C3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9BC63-FF9F-45BA-BBF2-B1EC6FFC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C0AAD8-F28B-4A4E-9DE0-FEB60CD1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C1D36-A9E5-4D53-AF0C-FA883CA2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FA50FC-3C00-4A5B-8DE5-F31BF88A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C7F667-74A8-4739-87A3-2121FB31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18498-B9EC-49FB-9193-1BD1506E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53FF6E-FBAD-497F-8FB6-0A653AD9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F9450-D899-4ED6-8B60-5674408E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F2C8C1-B675-4AD4-A974-0426B19D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6F91F-EECF-417A-8E1C-3DF720CA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53F-8CDA-453E-8AD4-249F4DEB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F9376-4F36-4EDF-8C6F-1981E4DE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4F0AD-20FA-4368-B16C-9D1C4E25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E4296-FFE5-43AD-90D1-B1E23252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DB20E-A59D-49F1-9337-87CE529E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27F87-58C2-4554-A2FE-42CB8C2C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DAE7B-EDA3-4188-A946-60A7D268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4239B-E5E8-4638-AA9E-2E0C0ECE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8A9AA9-3E99-4389-94E5-60C11A63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45B10E-C03A-40EE-864A-0B36C1DA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8DCB68-9415-4D11-8782-6BEDF097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754-8F3A-4504-8D92-F9E79BE5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710719-BBDF-46FF-9B4A-8346217A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7CA91C-BA45-4953-99E7-69CB4D73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FDB16F-6FB2-4369-8430-26CB9156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EE2BF6-D365-4F47-A4B8-78FF0697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530B05-C410-484D-BC9F-310134D1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B2C-38B4-487D-9175-E540AF75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A1C5-53E7-4676-B5F0-77A3165218D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F653-9062-4C9A-9054-9F0BCBBDEB3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086A-0B7D-4268-8752-5301CC36493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4846-7854-4A89-B6B7-47007B857EB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4A86-9885-46B4-AF95-558CEB8BF2C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391D-FEAC-439C-881D-BDD8CCA524E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0876-61BC-46E3-A680-C462169B535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596880" y="2155680"/>
            <a:ext cx="81504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7598d9"/>
                </a:solidFill>
                <a:latin typeface="Arial"/>
              </a:rPr>
              <a:t>СТИСНЕННЯ ФАЙЛІВ. АРХІВАТОР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хіватор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nRAR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: архівація файл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374760" y="906480"/>
            <a:ext cx="180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tabLst>
                <a:tab algn="l" pos="0"/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Архіваці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27440" y="957240"/>
            <a:ext cx="582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ff"/>
                </a:solidFill>
                <a:latin typeface="Arial"/>
              </a:rPr>
              <a:t>Спосіб 1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: виділіть файл чи групу файлів, викличте на виділеному КМ та виберіть пункт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ить в архи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660840" y="2066760"/>
            <a:ext cx="2727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ff"/>
                </a:solidFill>
                <a:latin typeface="Arial"/>
              </a:rPr>
              <a:t>Спосіб 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: перетягніть файл на значок існуючого архі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42000" y="4081320"/>
            <a:ext cx="1896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ff"/>
                </a:solidFill>
                <a:latin typeface="Arial"/>
              </a:rPr>
              <a:t>Спосіб 3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: перетягніть файл на вікно відкритого архі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12760" y="1355760"/>
            <a:ext cx="4394160" cy="5332320"/>
            <a:chOff x="212760" y="1355760"/>
            <a:chExt cx="4394160" cy="5332320"/>
          </a:xfrm>
        </p:grpSpPr>
        <p:grpSp>
          <p:nvGrpSpPr>
            <p:cNvPr id="455" name=""/>
            <p:cNvGrpSpPr/>
            <p:nvPr/>
          </p:nvGrpSpPr>
          <p:grpSpPr>
            <a:xfrm>
              <a:off x="622440" y="1355760"/>
              <a:ext cx="3984480" cy="5332320"/>
              <a:chOff x="622440" y="1355760"/>
              <a:chExt cx="3984480" cy="5332320"/>
            </a:xfrm>
          </p:grpSpPr>
          <p:pic>
            <p:nvPicPr>
              <p:cNvPr id="456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22440" y="1355760"/>
                <a:ext cx="1933560" cy="2666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57" name=""/>
              <p:cNvGrpSpPr/>
              <p:nvPr/>
            </p:nvGrpSpPr>
            <p:grpSpPr>
              <a:xfrm>
                <a:off x="1461960" y="3449520"/>
                <a:ext cx="3144960" cy="3238560"/>
                <a:chOff x="1461960" y="3449520"/>
                <a:chExt cx="3144960" cy="3238560"/>
              </a:xfrm>
            </p:grpSpPr>
            <p:pic>
              <p:nvPicPr>
                <p:cNvPr id="458" name="Picture 1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73120" y="3449520"/>
                  <a:ext cx="3133800" cy="323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9" name=""/>
                <p:cNvSpPr/>
                <p:nvPr/>
              </p:nvSpPr>
              <p:spPr>
                <a:xfrm>
                  <a:off x="1461960" y="4516560"/>
                  <a:ext cx="3122640" cy="67464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0" name="AutoShape 10"/>
            <p:cNvSpPr/>
            <p:nvPr/>
          </p:nvSpPr>
          <p:spPr>
            <a:xfrm>
              <a:off x="212760" y="4346640"/>
              <a:ext cx="858960" cy="372960"/>
            </a:xfrm>
            <a:prstGeom prst="wedgeRoundRectCallout">
              <a:avLst>
                <a:gd name="adj1" fmla="val 43898"/>
                <a:gd name="adj2" fmla="val -329574"/>
                <a:gd name="adj3" fmla="val 16667"/>
              </a:avLst>
            </a:prstGeom>
            <a:solidFill>
              <a:srgbClr val="e6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К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68120" y="1420920"/>
            <a:ext cx="576360" cy="57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6" descr=""/>
          <p:cNvPicPr/>
          <p:nvPr/>
        </p:nvPicPr>
        <p:blipFill>
          <a:blip r:embed="rId3"/>
          <a:srcRect l="0" t="0" r="65260" b="40870"/>
          <a:stretch/>
        </p:blipFill>
        <p:spPr>
          <a:xfrm>
            <a:off x="6834240" y="4387680"/>
            <a:ext cx="1879560" cy="22813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4948200" y="5800680"/>
            <a:ext cx="1473120" cy="7826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5556240" y="6162840"/>
            <a:ext cx="2041560" cy="237960"/>
          </a:xfrm>
          <a:prstGeom prst="rightArrow">
            <a:avLst>
              <a:gd name="adj1" fmla="val 50000"/>
              <a:gd name="adj2" fmla="val 21448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>
            <a:off x="6438960" y="2143080"/>
            <a:ext cx="1473120" cy="78264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6"/>
          <a:stretch/>
        </p:blipFill>
        <p:spPr>
          <a:xfrm>
            <a:off x="6519960" y="2932200"/>
            <a:ext cx="2044440" cy="8175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8116920" y="6091200"/>
            <a:ext cx="576360" cy="576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88480" y="2278080"/>
            <a:ext cx="576000" cy="576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5400000">
            <a:off x="6757200" y="2848680"/>
            <a:ext cx="395280" cy="238320"/>
          </a:xfrm>
          <a:prstGeom prst="rightArrow">
            <a:avLst>
              <a:gd name="adj1" fmla="val 50000"/>
              <a:gd name="adj2" fmla="val 41465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4473720" y="1401840"/>
            <a:ext cx="4390920" cy="3914640"/>
          </a:xfrm>
          <a:prstGeom prst="rect">
            <a:avLst/>
          </a:prstGeom>
          <a:ln w="0">
            <a:noFill/>
          </a:ln>
        </p:spPr>
      </p:pic>
      <p:sp>
        <p:nvSpPr>
          <p:cNvPr id="47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хіватор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nRAR: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стисн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"/>
          <p:cNvPicPr/>
          <p:nvPr/>
        </p:nvPicPr>
        <p:blipFill>
          <a:blip r:embed="rId2"/>
          <a:stretch/>
        </p:blipFill>
        <p:spPr>
          <a:xfrm>
            <a:off x="1176480" y="2146320"/>
            <a:ext cx="3933720" cy="3857760"/>
          </a:xfrm>
          <a:prstGeom prst="rect">
            <a:avLst/>
          </a:prstGeom>
          <a:ln w="0">
            <a:noFill/>
          </a:ln>
        </p:spPr>
      </p:pic>
      <p:sp>
        <p:nvSpPr>
          <p:cNvPr id="474" name="AutoShape 7"/>
          <p:cNvSpPr/>
          <p:nvPr/>
        </p:nvSpPr>
        <p:spPr>
          <a:xfrm>
            <a:off x="189000" y="3089160"/>
            <a:ext cx="1042920" cy="622440"/>
          </a:xfrm>
          <a:prstGeom prst="wedgeRoundRectCallout">
            <a:avLst>
              <a:gd name="adj1" fmla="val 76787"/>
              <a:gd name="adj2" fmla="val 115814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ип архі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9"/>
          <p:cNvSpPr/>
          <p:nvPr/>
        </p:nvSpPr>
        <p:spPr>
          <a:xfrm>
            <a:off x="4583160" y="4194000"/>
            <a:ext cx="858960" cy="373320"/>
          </a:xfrm>
          <a:prstGeom prst="wedgeRoundRectCallout">
            <a:avLst>
              <a:gd name="adj1" fmla="val -116175"/>
              <a:gd name="adj2" fmla="val -12976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F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0"/>
          <p:cNvSpPr/>
          <p:nvPr/>
        </p:nvSpPr>
        <p:spPr>
          <a:xfrm>
            <a:off x="196920" y="5257800"/>
            <a:ext cx="1589040" cy="593640"/>
          </a:xfrm>
          <a:prstGeom prst="wedgeRoundRectCallout">
            <a:avLst>
              <a:gd name="adj1" fmla="val 70481"/>
              <a:gd name="adj2" fmla="val -33958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агатотомні архі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1"/>
          <p:cNvSpPr/>
          <p:nvPr/>
        </p:nvSpPr>
        <p:spPr>
          <a:xfrm>
            <a:off x="7634160" y="4268880"/>
            <a:ext cx="1143000" cy="541080"/>
          </a:xfrm>
          <a:prstGeom prst="wedgeRoundRectCallout">
            <a:avLst>
              <a:gd name="adj1" fmla="val -39027"/>
              <a:gd name="adj2" fmla="val -283430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ар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а арх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2"/>
          <p:cNvSpPr/>
          <p:nvPr/>
        </p:nvSpPr>
        <p:spPr>
          <a:xfrm>
            <a:off x="3548160" y="1117440"/>
            <a:ext cx="1042920" cy="622440"/>
          </a:xfrm>
          <a:prstGeom prst="wedgeRoundRectCallout">
            <a:avLst>
              <a:gd name="adj1" fmla="val -205861"/>
              <a:gd name="adj2" fmla="val 287245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ім'я архі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760" y="941400"/>
            <a:ext cx="289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 створенні архіву задайте потрібні параметри архів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0"/>
          <p:cNvSpPr/>
          <p:nvPr/>
        </p:nvSpPr>
        <p:spPr>
          <a:xfrm>
            <a:off x="4432320" y="6053040"/>
            <a:ext cx="3529080" cy="594000"/>
          </a:xfrm>
          <a:prstGeom prst="wedgeRoundRectCallout">
            <a:avLst>
              <a:gd name="adj1" fmla="val -53509"/>
              <a:gd name="adj2" fmla="val -239837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 можливістю відновлення пошкодженого архі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1"/>
          <p:cNvSpPr/>
          <p:nvPr/>
        </p:nvSpPr>
        <p:spPr>
          <a:xfrm>
            <a:off x="5454720" y="2948040"/>
            <a:ext cx="987480" cy="836640"/>
          </a:xfrm>
          <a:prstGeom prst="wedgeRoundRectCallout">
            <a:avLst>
              <a:gd name="adj1" fmla="val 116398"/>
              <a:gd name="adj2" fmla="val -88518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дати ікон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F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174600" y="4033800"/>
            <a:ext cx="1042920" cy="622440"/>
          </a:xfrm>
          <a:prstGeom prst="wedgeRoundRectCallout">
            <a:avLst>
              <a:gd name="adj1" fmla="val 76787"/>
              <a:gd name="adj2" fmla="val 86222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тупінь стис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Архіватор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nRAR: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розархівува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09880" y="1027080"/>
            <a:ext cx="582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ff"/>
                </a:solidFill>
                <a:latin typeface="Arial"/>
              </a:rPr>
              <a:t>Спосіб 1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: виділіть файл чи групу файлів у вікні архіву (для виділення групи файлів утримуй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trl)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викличте на виділеному КМ та виберіть пункт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лечь в указанную папк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…” чи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лечь без подтверждени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” (в папку з існуючим архів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51360" y="3081240"/>
            <a:ext cx="412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ff"/>
                </a:solidFill>
                <a:latin typeface="Arial"/>
              </a:rPr>
              <a:t>Спосіб 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: виділіть файл чи групу файлів у вікні архіву та натисніть кнопку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лечь 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…” на панелі архіва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4640" y="4740120"/>
            <a:ext cx="567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ff"/>
                </a:solidFill>
                <a:latin typeface="Arial"/>
              </a:rPr>
              <a:t>Спосіб 3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: виділіть файл чи групу файлів у вікні архіву і просто перетягніть їх туди, де хочете їх отрим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11040" y="852480"/>
            <a:ext cx="3413160" cy="3740040"/>
            <a:chOff x="311040" y="852480"/>
            <a:chExt cx="3413160" cy="3740040"/>
          </a:xfrm>
        </p:grpSpPr>
        <p:grpSp>
          <p:nvGrpSpPr>
            <p:cNvPr id="489" name=""/>
            <p:cNvGrpSpPr/>
            <p:nvPr/>
          </p:nvGrpSpPr>
          <p:grpSpPr>
            <a:xfrm>
              <a:off x="311040" y="852480"/>
              <a:ext cx="2409840" cy="3614760"/>
              <a:chOff x="311040" y="852480"/>
              <a:chExt cx="2409840" cy="3614760"/>
            </a:xfrm>
          </p:grpSpPr>
          <p:pic>
            <p:nvPicPr>
              <p:cNvPr id="490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11040" y="1200240"/>
                <a:ext cx="2409840" cy="32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AutoShape 5"/>
              <p:cNvSpPr/>
              <p:nvPr/>
            </p:nvSpPr>
            <p:spPr>
              <a:xfrm>
                <a:off x="392040" y="852480"/>
                <a:ext cx="858600" cy="373320"/>
              </a:xfrm>
              <a:prstGeom prst="wedgeRoundRectCallout">
                <a:avLst>
                  <a:gd name="adj1" fmla="val 51662"/>
                  <a:gd name="adj2" fmla="val 215106"/>
                  <a:gd name="adj3" fmla="val 16667"/>
                </a:avLst>
              </a:prstGeom>
              <a:solidFill>
                <a:srgbClr val="e6e6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ЛКМ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2" name="" descr=""/>
            <p:cNvPicPr/>
            <p:nvPr/>
          </p:nvPicPr>
          <p:blipFill>
            <a:blip r:embed="rId2"/>
            <a:stretch/>
          </p:blipFill>
          <p:spPr>
            <a:xfrm>
              <a:off x="1200240" y="3021120"/>
              <a:ext cx="2523960" cy="157140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pic>
        <p:nvPicPr>
          <p:cNvPr id="493" name="Picture 4" descr=""/>
          <p:cNvPicPr/>
          <p:nvPr/>
        </p:nvPicPr>
        <p:blipFill>
          <a:blip r:embed="rId3"/>
          <a:srcRect l="0" t="0" r="0" b="24543"/>
          <a:stretch/>
        </p:blipFill>
        <p:spPr>
          <a:xfrm>
            <a:off x="6319800" y="4184640"/>
            <a:ext cx="2409840" cy="24652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 rot="10800000">
            <a:off x="5796000" y="6217920"/>
            <a:ext cx="690480" cy="266760"/>
          </a:xfrm>
          <a:prstGeom prst="rightArrow">
            <a:avLst>
              <a:gd name="adj1" fmla="val 50000"/>
              <a:gd name="adj2" fmla="val 6471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0880" y="5796000"/>
            <a:ext cx="344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ля виділення суміжних файлів можна утримувати клавіш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FT,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суміжних – клавіш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192480" y="4010040"/>
            <a:ext cx="576360" cy="576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09600" y="814320"/>
            <a:ext cx="576360" cy="576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059680" y="5726160"/>
            <a:ext cx="576360" cy="576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Архіватор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nRAR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розархівува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5614920" y="992160"/>
            <a:ext cx="239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tabLst>
                <a:tab algn="l" pos="0"/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Розархівуванн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6134040" y="1420920"/>
            <a:ext cx="1933560" cy="266688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13"/>
          <p:cNvSpPr/>
          <p:nvPr/>
        </p:nvSpPr>
        <p:spPr>
          <a:xfrm>
            <a:off x="5157720" y="2421000"/>
            <a:ext cx="858960" cy="372960"/>
          </a:xfrm>
          <a:prstGeom prst="wedgeRoundRectCallout">
            <a:avLst>
              <a:gd name="adj1" fmla="val 94731"/>
              <a:gd name="adj2" fmla="val 163189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К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0" descr=""/>
          <p:cNvPicPr/>
          <p:nvPr/>
        </p:nvPicPr>
        <p:blipFill>
          <a:blip r:embed="rId2"/>
          <a:stretch/>
        </p:blipFill>
        <p:spPr>
          <a:xfrm>
            <a:off x="6827760" y="2498760"/>
            <a:ext cx="1695600" cy="26478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393840" y="1082520"/>
            <a:ext cx="506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що потрібно розархівувати всі файли, що є в архіві, то, не відкриваючи вікно архіву, викличте КМ на його значку і виберіть пунк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Извлечь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фай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…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” чи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лечь в текущую папк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326880" y="3087720"/>
            <a:ext cx="4649760" cy="34923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6835680" y="2813040"/>
            <a:ext cx="1648080" cy="506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94280" y="5218200"/>
            <a:ext cx="343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 розпаковуванні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X-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рхіву клацніть по його значку: відкриється вікно з запитом про папку для видобування фай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487440" y="272268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Дякую за ува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Стиснення файл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19040" y="922320"/>
            <a:ext cx="838692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Стиснення файлів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це зменшення їх розмі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Архіваці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злиття кількох файлів чи папок в один файл (архі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312"/>
              </a:spcBef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Мета стисненн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меншити місце, яке займають файли на ди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ворити резервну копію даних (на CD, DV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меншити об'єм даних, які передаються через І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'єднати групу файлів в один арх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шифрувати дані з паро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312"/>
              </a:spcBef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Типи стисненн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ез втрат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тиснений файл можна відновити у вихідному вигляді, знаючи алгоритм стисн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к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г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і втрата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 при стисненні частина інформації безповоротно втрачає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тограф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77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361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  <p:animClr clrSpc="rgb">
                                <p:cBhvr>
                                  <p:cTn id="92" dur="1" fill="hold"/>
                                  <p:tgtEl>
                                    <p:spTgt spid="361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  <p:animClr clrSpc="rgb">
                                <p:cBhvr>
                                  <p:cTn id="93" dur="1" fill="hold"/>
                                  <p:tgtEl>
                                    <p:spTgt spid="361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  <p:animClr clrSpc="rgb">
                                <p:cBhvr>
                                  <p:cTn id="94" dur="1" fill="hold"/>
                                  <p:tgtEl>
                                    <p:spTgt spid="361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39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Чому файли можна стиснут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419040" y="922320"/>
            <a:ext cx="8386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Алгоритм RLE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(англ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кодування ланцюжка однакових символів, використовується для малюнків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*.bmp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987480" y="2254320"/>
          <a:ext cx="4876920" cy="3618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366" name="Group 38"/>
          <p:cNvGrpSpPr/>
          <p:nvPr/>
        </p:nvGrpSpPr>
        <p:grpSpPr>
          <a:xfrm>
            <a:off x="969840" y="2641680"/>
            <a:ext cx="2455560" cy="190440"/>
            <a:chOff x="969840" y="2641680"/>
            <a:chExt cx="2455560" cy="190440"/>
          </a:xfrm>
        </p:grpSpPr>
        <p:sp>
          <p:nvSpPr>
            <p:cNvPr id="367" name="Freeform 36"/>
            <p:cNvSpPr/>
            <p:nvPr/>
          </p:nvSpPr>
          <p:spPr>
            <a:xfrm>
              <a:off x="969840" y="2641680"/>
              <a:ext cx="1251720" cy="190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 flipH="1">
              <a:off x="2174040" y="2641680"/>
              <a:ext cx="1251360" cy="190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9"/>
          <p:cNvGrpSpPr/>
          <p:nvPr/>
        </p:nvGrpSpPr>
        <p:grpSpPr>
          <a:xfrm>
            <a:off x="3417840" y="2651040"/>
            <a:ext cx="2455560" cy="190440"/>
            <a:chOff x="3417840" y="2651040"/>
            <a:chExt cx="2455560" cy="190440"/>
          </a:xfrm>
        </p:grpSpPr>
        <p:sp>
          <p:nvSpPr>
            <p:cNvPr id="370" name="Freeform 40"/>
            <p:cNvSpPr/>
            <p:nvPr/>
          </p:nvSpPr>
          <p:spPr>
            <a:xfrm>
              <a:off x="3417840" y="2651040"/>
              <a:ext cx="1251720" cy="190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1"/>
            <p:cNvSpPr/>
            <p:nvPr/>
          </p:nvSpPr>
          <p:spPr>
            <a:xfrm flipH="1">
              <a:off x="4622040" y="2651040"/>
              <a:ext cx="1251360" cy="190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Rectangle 43"/>
          <p:cNvSpPr/>
          <p:nvPr/>
        </p:nvSpPr>
        <p:spPr>
          <a:xfrm>
            <a:off x="1934280" y="28036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4"/>
          <p:cNvSpPr/>
          <p:nvPr/>
        </p:nvSpPr>
        <p:spPr>
          <a:xfrm>
            <a:off x="4382280" y="2813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5"/>
          <p:cNvSpPr/>
          <p:nvPr/>
        </p:nvSpPr>
        <p:spPr>
          <a:xfrm>
            <a:off x="6120000" y="2232000"/>
            <a:ext cx="114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2611c"/>
                </a:solidFill>
                <a:latin typeface="Arial"/>
              </a:rPr>
              <a:t>300 </a:t>
            </a:r>
            <a:r>
              <a:rPr b="1" lang="ru-RU" sz="1800" spc="-1" strike="noStrike">
                <a:solidFill>
                  <a:srgbClr val="d2611c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6"/>
          <p:cNvSpPr/>
          <p:nvPr/>
        </p:nvSpPr>
        <p:spPr>
          <a:xfrm>
            <a:off x="488160" y="1741320"/>
            <a:ext cx="783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йл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q.tx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істить 200 байт з літерою А і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0 – з літерою 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7"/>
          <p:cNvSpPr/>
          <p:nvPr/>
        </p:nvSpPr>
        <p:spPr>
          <a:xfrm>
            <a:off x="490680" y="3176640"/>
            <a:ext cx="33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йл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q.r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исн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996840" y="3722760"/>
          <a:ext cx="2438640" cy="3618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Rectangle 70"/>
          <p:cNvSpPr/>
          <p:nvPr/>
        </p:nvSpPr>
        <p:spPr>
          <a:xfrm>
            <a:off x="3541680" y="3710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2611c"/>
                </a:solidFill>
                <a:latin typeface="Arial"/>
              </a:rPr>
              <a:t>4 </a:t>
            </a:r>
            <a:r>
              <a:rPr b="1" lang="ru-RU" sz="1800" spc="-1" strike="noStrike">
                <a:solidFill>
                  <a:srgbClr val="d2611c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74"/>
          <p:cNvGrpSpPr/>
          <p:nvPr/>
        </p:nvGrpSpPr>
        <p:grpSpPr>
          <a:xfrm>
            <a:off x="1789200" y="4260960"/>
            <a:ext cx="5418000" cy="663480"/>
            <a:chOff x="1789200" y="4260960"/>
            <a:chExt cx="5418000" cy="663480"/>
          </a:xfrm>
        </p:grpSpPr>
        <p:sp>
          <p:nvSpPr>
            <p:cNvPr id="380" name="Text Box 72"/>
            <p:cNvSpPr/>
            <p:nvPr/>
          </p:nvSpPr>
          <p:spPr>
            <a:xfrm>
              <a:off x="2255760" y="4367160"/>
              <a:ext cx="4951440" cy="459720"/>
            </a:xfrm>
            <a:prstGeom prst="rect">
              <a:avLst/>
            </a:prstGeom>
            <a:solidFill>
              <a:srgbClr val="d1d1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Стиснення з втратою чи без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73"/>
            <p:cNvSpPr/>
            <p:nvPr/>
          </p:nvSpPr>
          <p:spPr>
            <a:xfrm>
              <a:off x="1789200" y="4260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AutoShape 75"/>
          <p:cNvSpPr/>
          <p:nvPr/>
        </p:nvSpPr>
        <p:spPr>
          <a:xfrm>
            <a:off x="5218200" y="3203640"/>
            <a:ext cx="3319200" cy="501480"/>
          </a:xfrm>
          <a:prstGeom prst="wedgeRoundRectCallout">
            <a:avLst>
              <a:gd name="adj1" fmla="val -69657"/>
              <a:gd name="adj2" fmla="val 88606"/>
              <a:gd name="adj3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иснення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разі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6"/>
          <p:cNvSpPr/>
          <p:nvPr/>
        </p:nvSpPr>
        <p:spPr>
          <a:xfrm>
            <a:off x="498600" y="5202360"/>
            <a:ext cx="8278560" cy="1038240"/>
          </a:xfrm>
          <a:prstGeom prst="rect">
            <a:avLst/>
          </a:prstGeom>
          <a:solidFill>
            <a:srgbClr val="e6e6e6"/>
          </a:solidFill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Стиснення таким методом можливе, якщо в даних є символи або ланцюжок символів, які повторюються, стиснення “усуває” цю 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надлишкові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Чому файли можна стиснут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74760" y="804960"/>
            <a:ext cx="84232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1900" spc="-1" strike="noStrike">
                <a:solidFill>
                  <a:srgbClr val="7598d9"/>
                </a:solidFill>
                <a:latin typeface="Arial"/>
              </a:rPr>
              <a:t>Загальний підхід: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знайти в даних ланцюжки символів, які повторюютьс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позначити їх короткими кодами (бітовими, часто різної довжин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в початок стисненого файлу записати словни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1900" spc="-1" strike="noStrike">
                <a:solidFill>
                  <a:srgbClr val="7598d9"/>
                </a:solidFill>
                <a:latin typeface="Arial"/>
              </a:rPr>
              <a:t>Ефективні алгоритми: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лгоритм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Хаффман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LZW (Лемпела-Зіва-Велч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алгоритм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PPM (WinR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3301560" y="344160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598d9"/>
                </a:solidFill>
                <a:latin typeface="Arial"/>
              </a:rPr>
              <a:t>Стискаю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558720" y="4548240"/>
            <a:ext cx="3613320" cy="189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к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x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кумен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d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xl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стиснені малю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bm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стиснений зву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wa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стиснене віде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av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1535040" y="4157640"/>
            <a:ext cx="1662120" cy="3888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б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5586480" y="4157640"/>
            <a:ext cx="1662120" cy="38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г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4343400" y="4548240"/>
            <a:ext cx="4149720" cy="189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падкові да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гр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ex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иснені малю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gif, *.jpg, *.png, *.tif, 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иснений зву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p3, *.w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иснене віде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pg, *.wm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5"/>
          <p:cNvSpPr/>
          <p:nvPr/>
        </p:nvSpPr>
        <p:spPr>
          <a:xfrm rot="20219400">
            <a:off x="3184200" y="3887280"/>
            <a:ext cx="582480" cy="324000"/>
          </a:xfrm>
          <a:prstGeom prst="leftArrow">
            <a:avLst>
              <a:gd name="adj1" fmla="val 50000"/>
              <a:gd name="adj2" fmla="val 4494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6"/>
          <p:cNvSpPr/>
          <p:nvPr/>
        </p:nvSpPr>
        <p:spPr>
          <a:xfrm flipH="1" rot="1380600">
            <a:off x="5022360" y="3877920"/>
            <a:ext cx="582840" cy="324360"/>
          </a:xfrm>
          <a:prstGeom prst="leftArrow">
            <a:avLst>
              <a:gd name="adj1" fmla="val 50000"/>
              <a:gd name="adj2" fmla="val 44922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Спеціальні типи архіві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374760" y="906480"/>
            <a:ext cx="842328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tabLst>
                <a:tab algn="l" pos="0"/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en-US" sz="2100" spc="-1" strike="noStrike">
                <a:solidFill>
                  <a:srgbClr val="7598d9"/>
                </a:solidFill>
                <a:latin typeface="Arial"/>
              </a:rPr>
              <a:t>SFX-</a:t>
            </a: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архів</a:t>
            </a:r>
            <a:r>
              <a:rPr b="1" lang="ru-RU" sz="2100" spc="-1" strike="noStrike">
                <a:solidFill>
                  <a:srgbClr val="7598d9"/>
                </a:solidFill>
                <a:latin typeface="Arial"/>
              </a:rPr>
              <a:t> (англ. </a:t>
            </a:r>
            <a:r>
              <a:rPr b="1" i="1" lang="en-US" sz="21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i="1" lang="en-US" sz="2100" spc="-1" strike="noStrike">
                <a:solidFill>
                  <a:srgbClr val="7598d9"/>
                </a:solidFill>
                <a:latin typeface="Arial"/>
              </a:rPr>
              <a:t>el</a:t>
            </a:r>
            <a:r>
              <a:rPr b="1" i="1" lang="en-US" sz="2100" spc="-1" strike="noStrike">
                <a:solidFill>
                  <a:srgbClr val="0066ff"/>
                </a:solidFill>
                <a:latin typeface="Arial"/>
              </a:rPr>
              <a:t>F</a:t>
            </a:r>
            <a:r>
              <a:rPr b="1" i="1" lang="en-US" sz="2100" spc="-1" strike="noStrike">
                <a:solidFill>
                  <a:srgbClr val="7598d9"/>
                </a:solidFill>
                <a:latin typeface="Arial"/>
              </a:rPr>
              <a:t> e</a:t>
            </a:r>
            <a:r>
              <a:rPr b="1" i="1" lang="en-US" sz="2100" spc="-1" strike="noStrike">
                <a:solidFill>
                  <a:srgbClr val="0066ff"/>
                </a:solidFill>
                <a:latin typeface="Arial"/>
              </a:rPr>
              <a:t>X</a:t>
            </a:r>
            <a:r>
              <a:rPr b="1" i="1" lang="en-US" sz="2100" spc="-1" strike="noStrike">
                <a:solidFill>
                  <a:srgbClr val="7598d9"/>
                </a:solidFill>
                <a:latin typeface="Arial"/>
              </a:rPr>
              <a:t>tracting - </a:t>
            </a:r>
            <a:r>
              <a:rPr b="1" i="1" lang="uk-UA" sz="2100" spc="-1" strike="noStrike">
                <a:solidFill>
                  <a:srgbClr val="7598d9"/>
                </a:solidFill>
                <a:latin typeface="Arial"/>
              </a:rPr>
              <a:t>саморозпаковувальний</a:t>
            </a: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)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– це файл з розширенням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*.exe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, який містить стиснені дані і програму розпакування (близько 15 Кб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812"/>
              </a:spcBef>
              <a:tabLst>
                <a:tab algn="l" pos="0"/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Багатотомний архів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– це архів, розбитий на декілька части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76"/>
              </a:spcBef>
              <a:tabLst>
                <a:tab algn="l" pos="0"/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несення через диск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ручність скачування через І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88"/>
              </a:spcBef>
              <a:tabLst>
                <a:tab algn="l" pos="0"/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inRAR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c.part01.rar, abc.part02.rar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агатотом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X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рхі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c.exe, abc.r00, abc.r01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7"/>
          <p:cNvGrpSpPr/>
          <p:nvPr/>
        </p:nvGrpSpPr>
        <p:grpSpPr>
          <a:xfrm>
            <a:off x="663480" y="2030400"/>
            <a:ext cx="230400" cy="230040"/>
            <a:chOff x="663480" y="2030400"/>
            <a:chExt cx="230400" cy="230040"/>
          </a:xfrm>
        </p:grpSpPr>
        <p:sp>
          <p:nvSpPr>
            <p:cNvPr id="398" name="Oval 8"/>
            <p:cNvSpPr/>
            <p:nvPr/>
          </p:nvSpPr>
          <p:spPr>
            <a:xfrm>
              <a:off x="663480" y="2030400"/>
              <a:ext cx="230400" cy="230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9"/>
            <p:cNvGrpSpPr/>
            <p:nvPr/>
          </p:nvGrpSpPr>
          <p:grpSpPr>
            <a:xfrm>
              <a:off x="694800" y="2057760"/>
              <a:ext cx="173160" cy="173160"/>
              <a:chOff x="694800" y="2057760"/>
              <a:chExt cx="173160" cy="173160"/>
            </a:xfrm>
          </p:grpSpPr>
          <p:sp>
            <p:nvSpPr>
              <p:cNvPr id="400" name="Rectangle 10"/>
              <p:cNvSpPr/>
              <p:nvPr/>
            </p:nvSpPr>
            <p:spPr>
              <a:xfrm>
                <a:off x="694800" y="2116440"/>
                <a:ext cx="173160" cy="56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11"/>
              <p:cNvSpPr/>
              <p:nvPr/>
            </p:nvSpPr>
            <p:spPr>
              <a:xfrm rot="16200000">
                <a:off x="695160" y="2116080"/>
                <a:ext cx="173160" cy="56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12"/>
            <p:cNvSpPr/>
            <p:nvPr/>
          </p:nvSpPr>
          <p:spPr>
            <a:xfrm>
              <a:off x="694440" y="2057760"/>
              <a:ext cx="173520" cy="173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13"/>
          <p:cNvSpPr/>
          <p:nvPr/>
        </p:nvSpPr>
        <p:spPr>
          <a:xfrm>
            <a:off x="971640" y="1996920"/>
            <a:ext cx="6973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розпакування не потрібен архів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же розпаковувати некваліфікований користув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5"/>
          <p:cNvGrpSpPr/>
          <p:nvPr/>
        </p:nvGrpSpPr>
        <p:grpSpPr>
          <a:xfrm>
            <a:off x="655560" y="2670120"/>
            <a:ext cx="230400" cy="230400"/>
            <a:chOff x="655560" y="2670120"/>
            <a:chExt cx="230400" cy="230400"/>
          </a:xfrm>
        </p:grpSpPr>
        <p:sp>
          <p:nvSpPr>
            <p:cNvPr id="405" name="Oval 16"/>
            <p:cNvSpPr/>
            <p:nvPr/>
          </p:nvSpPr>
          <p:spPr>
            <a:xfrm>
              <a:off x="655560" y="2670120"/>
              <a:ext cx="2304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7"/>
            <p:cNvSpPr/>
            <p:nvPr/>
          </p:nvSpPr>
          <p:spPr>
            <a:xfrm>
              <a:off x="685080" y="2757960"/>
              <a:ext cx="173160" cy="5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18"/>
          <p:cNvSpPr/>
          <p:nvPr/>
        </p:nvSpPr>
        <p:spPr>
          <a:xfrm>
            <a:off x="969840" y="2689200"/>
            <a:ext cx="67471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більшення розміру фай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безпека зараження вірусами програми розпак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7081920" y="1952640"/>
            <a:ext cx="1581120" cy="8161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26960" y="5792760"/>
            <a:ext cx="76122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Популярні архіватор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382840" y="973080"/>
            <a:ext cx="1819440" cy="1819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425520" y="1027080"/>
            <a:ext cx="1709640" cy="17096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4505400" y="102708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6340320" y="1025640"/>
            <a:ext cx="1884600" cy="16430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503280" y="3327480"/>
            <a:ext cx="1811160" cy="21049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2511360" y="3451320"/>
            <a:ext cx="1900440" cy="190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477720" y="2828880"/>
            <a:ext cx="15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Arial Black"/>
              </a:rPr>
              <a:t>Win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02000" y="2828880"/>
            <a:ext cx="14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Arial Black"/>
              </a:rPr>
              <a:t>Win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513320" y="2841480"/>
            <a:ext cx="14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Arial Black"/>
              </a:rPr>
              <a:t>Wi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80160" y="285768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Arial Black"/>
              </a:rPr>
              <a:t>7-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36960" y="5613480"/>
            <a:ext cx="11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Arial Black"/>
              </a:rPr>
              <a:t>IZ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60520" y="5584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Arial Black"/>
              </a:rPr>
              <a:t>Power Arch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7"/>
          <a:stretch/>
        </p:blipFill>
        <p:spPr>
          <a:xfrm>
            <a:off x="4660920" y="3514680"/>
            <a:ext cx="1790640" cy="17146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8"/>
          <a:stretch/>
        </p:blipFill>
        <p:spPr>
          <a:xfrm>
            <a:off x="6524640" y="3587760"/>
            <a:ext cx="2108160" cy="16239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4667400" y="5611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Arial Black"/>
              </a:rPr>
              <a:t>KGB Arch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50000" y="5641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Arial Black"/>
              </a:rPr>
              <a:t>Fil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Основні характеристики архіватор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3840" y="957240"/>
            <a:ext cx="827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сновними характеристиками архіваторів є </a:t>
            </a:r>
            <a:r>
              <a:rPr b="1" lang="uk-UA" sz="2000" spc="-1" strike="noStrike">
                <a:solidFill>
                  <a:srgbClr val="7598d9"/>
                </a:solidFill>
                <a:latin typeface="Arial"/>
              </a:rPr>
              <a:t>степінь стисканн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відношення розміру стиснутого файлу до його початкового розміру) та </a:t>
            </a:r>
            <a:r>
              <a:rPr b="1" lang="uk-UA" sz="2000" spc="-1" strike="noStrike">
                <a:solidFill>
                  <a:srgbClr val="7598d9"/>
                </a:solidFill>
                <a:latin typeface="Arial"/>
              </a:rPr>
              <a:t>час архівації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550800" y="1986120"/>
            <a:ext cx="5977080" cy="33242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576520" y="3232080"/>
            <a:ext cx="61293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596880" y="2155680"/>
            <a:ext cx="8150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7598d9"/>
                </a:solidFill>
                <a:latin typeface="Arial"/>
              </a:rPr>
              <a:t>АРХІВАТОР </a:t>
            </a:r>
            <a:r>
              <a:rPr b="1" lang="en-US" sz="5000" spc="-1" strike="noStrike">
                <a:solidFill>
                  <a:srgbClr val="7598d9"/>
                </a:solidFill>
                <a:latin typeface="Arial"/>
              </a:rPr>
              <a:t>WinRA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Архіватор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nRAR 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. Роша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374760" y="906480"/>
            <a:ext cx="4216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tabLst>
                <a:tab algn="l" pos="0"/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Завантаження</a:t>
            </a:r>
            <a:r>
              <a:rPr b="1" lang="ru-RU" sz="2100" spc="-1" strike="noStrike">
                <a:solidFill>
                  <a:srgbClr val="7598d9"/>
                </a:solidFill>
                <a:latin typeface="Arial"/>
              </a:rPr>
              <a:t>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Пуск –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WinR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01680" y="1574640"/>
            <a:ext cx="8356680" cy="5113440"/>
            <a:chOff x="301680" y="1574640"/>
            <a:chExt cx="8356680" cy="5113440"/>
          </a:xfrm>
        </p:grpSpPr>
        <p:pic>
          <p:nvPicPr>
            <p:cNvPr id="438" name="Picture 6" descr=""/>
            <p:cNvPicPr/>
            <p:nvPr/>
          </p:nvPicPr>
          <p:blipFill>
            <a:blip r:embed="rId1"/>
            <a:stretch/>
          </p:blipFill>
          <p:spPr>
            <a:xfrm>
              <a:off x="3214800" y="2176200"/>
              <a:ext cx="541008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AutoShape 7"/>
            <p:cNvSpPr/>
            <p:nvPr/>
          </p:nvSpPr>
          <p:spPr>
            <a:xfrm>
              <a:off x="301680" y="2106360"/>
              <a:ext cx="2495520" cy="631800"/>
            </a:xfrm>
            <a:prstGeom prst="wedgeRoundRectCallout">
              <a:avLst>
                <a:gd name="adj1" fmla="val 72138"/>
                <a:gd name="adj2" fmla="val 70101"/>
                <a:gd name="adj3" fmla="val 16667"/>
              </a:avLst>
            </a:prstGeom>
            <a:solidFill>
              <a:srgbClr val="e6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стиснути виділені фай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8"/>
            <p:cNvSpPr/>
            <p:nvPr/>
          </p:nvSpPr>
          <p:spPr>
            <a:xfrm>
              <a:off x="4756320" y="1574640"/>
              <a:ext cx="3902040" cy="544320"/>
            </a:xfrm>
            <a:prstGeom prst="wedgeRoundRectCallout">
              <a:avLst>
                <a:gd name="adj1" fmla="val -61351"/>
                <a:gd name="adj2" fmla="val 161662"/>
                <a:gd name="adj3" fmla="val 16667"/>
              </a:avLst>
            </a:prstGeom>
            <a:solidFill>
              <a:srgbClr val="e6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Розпакувати виділений файл з архів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9"/>
            <p:cNvSpPr/>
            <p:nvPr/>
          </p:nvSpPr>
          <p:spPr>
            <a:xfrm>
              <a:off x="3799080" y="6241680"/>
              <a:ext cx="2354040" cy="446400"/>
            </a:xfrm>
            <a:prstGeom prst="wedgeRoundRectCallout">
              <a:avLst>
                <a:gd name="adj1" fmla="val -60518"/>
                <a:gd name="adj2" fmla="val -113347"/>
                <a:gd name="adj3" fmla="val 16667"/>
              </a:avLst>
            </a:prstGeom>
            <a:solidFill>
              <a:srgbClr val="e6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змінити паро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10"/>
            <p:cNvSpPr/>
            <p:nvPr/>
          </p:nvSpPr>
          <p:spPr>
            <a:xfrm>
              <a:off x="1166760" y="6233760"/>
              <a:ext cx="1800360" cy="446040"/>
            </a:xfrm>
            <a:prstGeom prst="wedgeRoundRectCallout">
              <a:avLst>
                <a:gd name="adj1" fmla="val 63935"/>
                <a:gd name="adj2" fmla="val -118685"/>
                <a:gd name="adj3" fmla="val 16667"/>
              </a:avLst>
            </a:prstGeom>
            <a:solidFill>
              <a:srgbClr val="e6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змінити дис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11"/>
            <p:cNvSpPr/>
            <p:nvPr/>
          </p:nvSpPr>
          <p:spPr>
            <a:xfrm>
              <a:off x="319320" y="4437000"/>
              <a:ext cx="2457360" cy="688680"/>
            </a:xfrm>
            <a:prstGeom prst="wedgeRoundRectCallout">
              <a:avLst>
                <a:gd name="adj1" fmla="val 71254"/>
                <a:gd name="adj2" fmla="val -58523"/>
                <a:gd name="adj3" fmla="val 16667"/>
              </a:avLst>
            </a:prstGeom>
            <a:solidFill>
              <a:srgbClr val="e6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подвійний клік ЛКМ: відкрити арх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12"/>
            <p:cNvSpPr/>
            <p:nvPr/>
          </p:nvSpPr>
          <p:spPr>
            <a:xfrm>
              <a:off x="335160" y="3171600"/>
              <a:ext cx="2384280" cy="401760"/>
            </a:xfrm>
            <a:prstGeom prst="wedgeRoundRectCallout">
              <a:avLst>
                <a:gd name="adj1" fmla="val 75300"/>
                <a:gd name="adj2" fmla="val -13240"/>
                <a:gd name="adj3" fmla="val 16667"/>
              </a:avLst>
            </a:prstGeom>
            <a:solidFill>
              <a:srgbClr val="e6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вийти з пап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11"/>
            <p:cNvSpPr/>
            <p:nvPr/>
          </p:nvSpPr>
          <p:spPr>
            <a:xfrm>
              <a:off x="306360" y="3662280"/>
              <a:ext cx="2457720" cy="688680"/>
            </a:xfrm>
            <a:prstGeom prst="wedgeRoundRectCallout">
              <a:avLst>
                <a:gd name="adj1" fmla="val 73513"/>
                <a:gd name="adj2" fmla="val -11518"/>
                <a:gd name="adj3" fmla="val 16667"/>
              </a:avLst>
            </a:prstGeom>
            <a:solidFill>
              <a:srgbClr val="e6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подвійний клік ЛКМ: відкрити пап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1"/>
            <p:cNvSpPr/>
            <p:nvPr/>
          </p:nvSpPr>
          <p:spPr>
            <a:xfrm>
              <a:off x="333360" y="5181480"/>
              <a:ext cx="2457720" cy="688680"/>
            </a:xfrm>
            <a:prstGeom prst="wedgeRoundRectCallout">
              <a:avLst>
                <a:gd name="adj1" fmla="val 72351"/>
                <a:gd name="adj2" fmla="val 2763"/>
                <a:gd name="adj3" fmla="val 16667"/>
              </a:avLst>
            </a:prstGeom>
            <a:solidFill>
              <a:srgbClr val="e6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подвійний клік ЛКМ: відкрити фай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4"/>
          <p:cNvSpPr/>
          <p:nvPr/>
        </p:nvSpPr>
        <p:spPr>
          <a:xfrm>
            <a:off x="376200" y="1427040"/>
            <a:ext cx="4216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tabLst>
                <a:tab algn="l" pos="0"/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100" spc="-1" strike="noStrike">
                <a:solidFill>
                  <a:srgbClr val="7598d9"/>
                </a:solidFill>
                <a:latin typeface="Arial"/>
              </a:rPr>
              <a:t>Вікно архіватора </a:t>
            </a:r>
            <a:r>
              <a:rPr b="1" lang="en-US" sz="2100" spc="-1" strike="noStrike">
                <a:solidFill>
                  <a:srgbClr val="7598d9"/>
                </a:solidFill>
                <a:latin typeface="Arial"/>
              </a:rPr>
              <a:t>WinR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name</cp:lastModifiedBy>
  <dcterms:modified xsi:type="dcterms:W3CDTF">2011-02-01T17:39:05Z</dcterms:modified>
  <cp:revision>218</cp:revision>
  <dc:subject/>
  <dc:title>Программное обеспечение (ПО)</dc:title>
</cp:coreProperties>
</file>